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8E0-090A-41CC-B54D-DEEF4F7A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B31-3BA5-4C74-9BDF-7D16AC6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27E-1FB8-4F7B-A2E7-D935392F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1B9-5CF7-49AE-99E6-351EFE30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5A0-BE05-483B-B2F4-D6C3D78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B18-33CB-4380-8985-ECEDD501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29D-DCEE-4412-A597-4915E641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F61-C927-44E7-839B-73D7B7AB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9B1-341F-463B-9D37-2C2F25E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E76-1F73-48BD-9F13-BE9200A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DFD-C617-4DC1-9B1F-BC846642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CDB-F15A-4E7B-8E6E-EA6524A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D1336-72F4-4D61-B0C4-1C951CAC57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Li Ming Goes to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800440" y="4502160"/>
            <a:ext cx="634356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文本框 8" descr=""/>
          <p:cNvPicPr/>
          <p:nvPr/>
        </p:nvPicPr>
        <p:blipFill>
          <a:blip r:embed="rId1"/>
          <a:stretch/>
        </p:blipFill>
        <p:spPr>
          <a:xfrm>
            <a:off x="1812960" y="193680"/>
            <a:ext cx="6048360" cy="71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Administrator\Desktop\QQ截图20170516174118.jpg"/>
          <p:cNvPicPr/>
          <p:nvPr/>
        </p:nvPicPr>
        <p:blipFill>
          <a:blip r:embed="rId2"/>
          <a:stretch/>
        </p:blipFill>
        <p:spPr>
          <a:xfrm>
            <a:off x="1203480" y="1189080"/>
            <a:ext cx="670068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3211560" y="1692360"/>
            <a:ext cx="366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y I help you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可以帮你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8"/>
          <p:cNvSpPr/>
          <p:nvPr/>
        </p:nvSpPr>
        <p:spPr>
          <a:xfrm>
            <a:off x="987480" y="1744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1246320" y="17254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book.gif"/>
          <p:cNvPicPr/>
          <p:nvPr/>
        </p:nvPicPr>
        <p:blipFill>
          <a:blip r:embed="rId2"/>
          <a:stretch/>
        </p:blipFill>
        <p:spPr>
          <a:xfrm>
            <a:off x="185760" y="1630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017720" y="2370240"/>
            <a:ext cx="766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句型主要用于询问对方是否需要帮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情态动词，意为“可以”，后面接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方的肯定回答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/Sure.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然可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不用了， 谢谢。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8" descr=""/>
          <p:cNvPicPr/>
          <p:nvPr/>
        </p:nvPicPr>
        <p:blipFill>
          <a:blip r:embed="rId2"/>
          <a:stretch/>
        </p:blipFill>
        <p:spPr>
          <a:xfrm>
            <a:off x="452520" y="185904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6"/>
          <p:cNvSpPr/>
          <p:nvPr/>
        </p:nvSpPr>
        <p:spPr>
          <a:xfrm>
            <a:off x="874440" y="1708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638360" y="1625760"/>
            <a:ext cx="698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车站、书店、商场、餐馆里的服务员常用这句话招呼顾客。但是它在不同的场合有不同的含义，快来看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885960" y="387684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要去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6"/>
          <p:cNvSpPr/>
          <p:nvPr/>
        </p:nvSpPr>
        <p:spPr>
          <a:xfrm>
            <a:off x="901800" y="5051520"/>
            <a:ext cx="2251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要什么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6316560" y="3876840"/>
            <a:ext cx="226872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买点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6332400" y="5119560"/>
            <a:ext cx="22528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吃点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3998880" y="4336920"/>
            <a:ext cx="1515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4"/>
          <p:cNvSpPr/>
          <p:nvPr/>
        </p:nvSpPr>
        <p:spPr>
          <a:xfrm>
            <a:off x="3152880" y="4106880"/>
            <a:ext cx="846000" cy="68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2"/>
          <p:cNvSpPr/>
          <p:nvPr/>
        </p:nvSpPr>
        <p:spPr>
          <a:xfrm flipV="1">
            <a:off x="3152880" y="4801680"/>
            <a:ext cx="846000" cy="481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5"/>
          <p:cNvSpPr/>
          <p:nvPr/>
        </p:nvSpPr>
        <p:spPr>
          <a:xfrm flipV="1">
            <a:off x="5514840" y="4106880"/>
            <a:ext cx="801720" cy="68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7"/>
          <p:cNvSpPr/>
          <p:nvPr/>
        </p:nvSpPr>
        <p:spPr>
          <a:xfrm>
            <a:off x="5514840" y="4788000"/>
            <a:ext cx="817560" cy="56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3139920" y="380520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0"/>
          <p:cNvSpPr/>
          <p:nvPr/>
        </p:nvSpPr>
        <p:spPr>
          <a:xfrm>
            <a:off x="3125880" y="517212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1"/>
          <p:cNvSpPr/>
          <p:nvPr/>
        </p:nvSpPr>
        <p:spPr>
          <a:xfrm>
            <a:off x="5253120" y="379404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商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2"/>
          <p:cNvSpPr/>
          <p:nvPr/>
        </p:nvSpPr>
        <p:spPr>
          <a:xfrm>
            <a:off x="5302080" y="532116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餐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6"/>
          <p:cNvGrpSpPr/>
          <p:nvPr/>
        </p:nvGrpSpPr>
        <p:grpSpPr>
          <a:xfrm>
            <a:off x="628560" y="2217600"/>
            <a:ext cx="1260720" cy="459720"/>
            <a:chOff x="628560" y="2217600"/>
            <a:chExt cx="1260720" cy="459720"/>
          </a:xfrm>
        </p:grpSpPr>
        <p:sp>
          <p:nvSpPr>
            <p:cNvPr id="161" name="TextBox 3"/>
            <p:cNvSpPr/>
            <p:nvPr/>
          </p:nvSpPr>
          <p:spPr>
            <a:xfrm>
              <a:off x="896760" y="2217600"/>
              <a:ext cx="99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28560" y="2271600"/>
              <a:ext cx="32436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矩形 28"/>
          <p:cNvSpPr/>
          <p:nvPr/>
        </p:nvSpPr>
        <p:spPr>
          <a:xfrm>
            <a:off x="1793880" y="1973160"/>
            <a:ext cx="69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I’m lost. Where is the libr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et me help you.               B. Can you help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2851200" y="22240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7"/>
          <p:cNvSpPr/>
          <p:nvPr/>
        </p:nvSpPr>
        <p:spPr>
          <a:xfrm>
            <a:off x="3422160" y="1623960"/>
            <a:ext cx="33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unch /lʌntʃ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午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8"/>
          <p:cNvSpPr/>
          <p:nvPr/>
        </p:nvSpPr>
        <p:spPr>
          <a:xfrm>
            <a:off x="1131840" y="1741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9"/>
          <p:cNvSpPr/>
          <p:nvPr/>
        </p:nvSpPr>
        <p:spPr>
          <a:xfrm>
            <a:off x="1413000" y="17226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436840" y="235584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r clothes are very dirt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衣服很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9" descr="book.gif"/>
          <p:cNvPicPr/>
          <p:nvPr/>
        </p:nvPicPr>
        <p:blipFill>
          <a:blip r:embed="rId2"/>
          <a:stretch/>
        </p:blipFill>
        <p:spPr>
          <a:xfrm>
            <a:off x="360360" y="1663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73" name="矩形 1"/>
          <p:cNvSpPr/>
          <p:nvPr/>
        </p:nvSpPr>
        <p:spPr>
          <a:xfrm>
            <a:off x="1629720" y="258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639440" y="338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482920" y="3143160"/>
            <a:ext cx="290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rty wa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脏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2525760" y="4805280"/>
            <a:ext cx="2031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r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626840" y="418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486160" y="393696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e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干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405800" y="4989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609560" y="1446120"/>
            <a:ext cx="59626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istrator\Desktop\QQ截图20170516175205.jpg"/>
          <p:cNvPicPr/>
          <p:nvPr/>
        </p:nvPicPr>
        <p:blipFill>
          <a:blip r:embed="rId2"/>
          <a:stretch/>
        </p:blipFill>
        <p:spPr>
          <a:xfrm>
            <a:off x="923760" y="1255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1"/>
          <p:cNvSpPr/>
          <p:nvPr/>
        </p:nvSpPr>
        <p:spPr>
          <a:xfrm>
            <a:off x="1681200" y="24271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377040" y="199224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3757680" y="236376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1679400" y="28386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2898720" y="2824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1681200" y="3260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2940120" y="32320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1708200" y="3679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1693800" y="409104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1"/>
          <p:cNvSpPr/>
          <p:nvPr/>
        </p:nvSpPr>
        <p:spPr>
          <a:xfrm>
            <a:off x="3825720" y="402264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79400" y="448308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3452760" y="448452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1681200" y="4925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1665360" y="53197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3772080" y="528804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961920" y="1357200"/>
            <a:ext cx="753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t’s five o’ clock in the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time to mak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eakf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lunch            C.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You can help me ________a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makes          B. make              C.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3944880" y="249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22"/>
          <p:cNvGrpSpPr/>
          <p:nvPr/>
        </p:nvGrpSpPr>
        <p:grpSpPr>
          <a:xfrm>
            <a:off x="7167600" y="1125360"/>
            <a:ext cx="1812960" cy="368640"/>
            <a:chOff x="7167600" y="1125360"/>
            <a:chExt cx="1812960" cy="368640"/>
          </a:xfrm>
        </p:grpSpPr>
        <p:sp>
          <p:nvSpPr>
            <p:cNvPr id="203" name="矩形 21"/>
            <p:cNvSpPr/>
            <p:nvPr/>
          </p:nvSpPr>
          <p:spPr>
            <a:xfrm>
              <a:off x="7167600" y="1142640"/>
              <a:ext cx="181296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17"/>
            <p:cNvSpPr/>
            <p:nvPr/>
          </p:nvSpPr>
          <p:spPr>
            <a:xfrm>
              <a:off x="72241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4"/>
          <p:cNvSpPr/>
          <p:nvPr/>
        </p:nvSpPr>
        <p:spPr>
          <a:xfrm>
            <a:off x="1353960" y="4830840"/>
            <a:ext cx="715356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2228760" y="481500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 sth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帮助某人做某事”。所以用动词原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ak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3944880" y="3629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961920" y="1535040"/>
            <a:ext cx="753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Who is helping her _________Chin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or            B. of            C.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Let’s _________his brother move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p          B. helps        C. hel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4402080" y="1690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2"/>
          <p:cNvGrpSpPr/>
          <p:nvPr/>
        </p:nvGrpSpPr>
        <p:grpSpPr>
          <a:xfrm>
            <a:off x="7099200" y="1125360"/>
            <a:ext cx="1812960" cy="368640"/>
            <a:chOff x="7099200" y="1125360"/>
            <a:chExt cx="1812960" cy="368640"/>
          </a:xfrm>
        </p:grpSpPr>
        <p:sp>
          <p:nvSpPr>
            <p:cNvPr id="212" name="矩形 21"/>
            <p:cNvSpPr/>
            <p:nvPr/>
          </p:nvSpPr>
          <p:spPr>
            <a:xfrm>
              <a:off x="7099200" y="1142640"/>
              <a:ext cx="181296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17"/>
            <p:cNvSpPr/>
            <p:nvPr/>
          </p:nvSpPr>
          <p:spPr>
            <a:xfrm>
              <a:off x="71964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1343160" y="284940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2217600" y="283356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b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ith sth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帮助某人做某事”，这是固定搭配，介词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it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2538360" y="4235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305000" y="5283360"/>
            <a:ext cx="7153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2179800" y="526716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et’s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面接动词原形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900000" y="1646280"/>
            <a:ext cx="8113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, I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, hel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根据句意和图片提示，用正确的单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boy’s hands are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738680" y="44546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525680" y="3160800"/>
            <a:ext cx="30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2"/>
          <p:cNvGrpSpPr/>
          <p:nvPr/>
        </p:nvGrpSpPr>
        <p:grpSpPr>
          <a:xfrm>
            <a:off x="7236000" y="1125360"/>
            <a:ext cx="1812600" cy="368640"/>
            <a:chOff x="7236000" y="1125360"/>
            <a:chExt cx="1812600" cy="368640"/>
          </a:xfrm>
        </p:grpSpPr>
        <p:sp>
          <p:nvSpPr>
            <p:cNvPr id="224" name="矩形 23"/>
            <p:cNvSpPr/>
            <p:nvPr/>
          </p:nvSpPr>
          <p:spPr>
            <a:xfrm>
              <a:off x="7236000" y="1142640"/>
              <a:ext cx="18126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72925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20" descr=""/>
          <p:cNvPicPr/>
          <p:nvPr/>
        </p:nvPicPr>
        <p:blipFill>
          <a:blip r:embed="rId2"/>
          <a:stretch/>
        </p:blipFill>
        <p:spPr>
          <a:xfrm>
            <a:off x="6173640" y="4376880"/>
            <a:ext cx="106704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2048040" y="4575240"/>
            <a:ext cx="56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you eat for din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"/>
          <p:cNvPicPr/>
          <p:nvPr/>
        </p:nvPicPr>
        <p:blipFill>
          <a:blip r:embed="rId1"/>
          <a:stretch/>
        </p:blipFill>
        <p:spPr>
          <a:xfrm>
            <a:off x="1096920" y="1793880"/>
            <a:ext cx="3325680" cy="251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2"/>
          <a:stretch/>
        </p:blipFill>
        <p:spPr>
          <a:xfrm>
            <a:off x="4756320" y="179388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E:\QQ文件\小学点拨课件副本.gif"/>
          <p:cNvPicPr/>
          <p:nvPr/>
        </p:nvPicPr>
        <p:blipFill>
          <a:blip r:embed="rId3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633240" y="1486080"/>
            <a:ext cx="80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633240" y="3112920"/>
            <a:ext cx="79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, dinner,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di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help my mother make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451240" y="198360"/>
            <a:ext cx="4608360" cy="7160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77880" y="1193760"/>
            <a:ext cx="7234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im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half past six. Time for dinner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hungr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m! I only ate an apple for lunch. What’s for din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 m cooking meat 3 and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help my mother make dinner. She needs some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omatoes are in the frid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otatoes and carrots ar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ner’s rea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ner looks so good, Mrs. Sm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7"/>
          <p:cNvSpPr/>
          <p:nvPr/>
        </p:nvSpPr>
        <p:spPr>
          <a:xfrm>
            <a:off x="3176280" y="1582560"/>
            <a:ext cx="33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unch /lʌntʃ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午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8"/>
          <p:cNvSpPr/>
          <p:nvPr/>
        </p:nvSpPr>
        <p:spPr>
          <a:xfrm>
            <a:off x="885960" y="17002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9"/>
          <p:cNvSpPr/>
          <p:nvPr/>
        </p:nvSpPr>
        <p:spPr>
          <a:xfrm>
            <a:off x="1166760" y="16812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192400" y="2314440"/>
            <a:ext cx="48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girl has some meat for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女孩午餐吃了一些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book.gif"/>
          <p:cNvPicPr/>
          <p:nvPr/>
        </p:nvPicPr>
        <p:blipFill>
          <a:blip r:embed="rId2"/>
          <a:stretch/>
        </p:blipFill>
        <p:spPr>
          <a:xfrm>
            <a:off x="114480" y="16225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1383840" y="2543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1298160" y="411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209680" y="386712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午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8" descr=""/>
          <p:cNvPicPr/>
          <p:nvPr/>
        </p:nvPicPr>
        <p:blipFill>
          <a:blip r:embed="rId3"/>
          <a:stretch/>
        </p:blipFill>
        <p:spPr>
          <a:xfrm>
            <a:off x="861840" y="499752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79" name="矩形 16"/>
          <p:cNvSpPr/>
          <p:nvPr/>
        </p:nvSpPr>
        <p:spPr>
          <a:xfrm>
            <a:off x="1284120" y="4846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2184480" y="4764240"/>
            <a:ext cx="425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ti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餐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7"/>
          <p:cNvSpPr/>
          <p:nvPr/>
        </p:nvSpPr>
        <p:spPr>
          <a:xfrm>
            <a:off x="2692440" y="1571760"/>
            <a:ext cx="48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’s for dinner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饭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9"/>
          <p:cNvSpPr/>
          <p:nvPr/>
        </p:nvSpPr>
        <p:spPr>
          <a:xfrm>
            <a:off x="1158840" y="1682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209680" y="2938320"/>
            <a:ext cx="511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as dinner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在家吃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book.gif"/>
          <p:cNvPicPr/>
          <p:nvPr/>
        </p:nvPicPr>
        <p:blipFill>
          <a:blip r:embed="rId2"/>
          <a:stretch/>
        </p:blipFill>
        <p:spPr>
          <a:xfrm>
            <a:off x="5868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矩形 25"/>
          <p:cNvSpPr/>
          <p:nvPr/>
        </p:nvSpPr>
        <p:spPr>
          <a:xfrm>
            <a:off x="1058760" y="232884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inner / dɪn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355400" y="313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211480" y="4265640"/>
            <a:ext cx="674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晚餐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356840" y="4467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14720" y="4935600"/>
            <a:ext cx="176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109160" y="5137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1112760" y="138744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询问三餐吃什么的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128600" y="1979640"/>
            <a:ext cx="7032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餐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breakfast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/dinner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1101600" y="2670120"/>
            <a:ext cx="1806840" cy="1514520"/>
            <a:chOff x="1101600" y="2670120"/>
            <a:chExt cx="1806840" cy="1514520"/>
          </a:xfrm>
        </p:grpSpPr>
        <p:pic>
          <p:nvPicPr>
            <p:cNvPr id="10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101600" y="2670120"/>
              <a:ext cx="18068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2"/>
            <p:cNvSpPr/>
            <p:nvPr/>
          </p:nvSpPr>
          <p:spPr>
            <a:xfrm>
              <a:off x="1608120" y="2991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"/>
          <p:cNvSpPr/>
          <p:nvPr/>
        </p:nvSpPr>
        <p:spPr>
          <a:xfrm>
            <a:off x="2577960" y="39639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中介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不要丢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550960" y="4591080"/>
            <a:ext cx="511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lunch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饭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odle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1696680" y="477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6"/>
          <p:cNvGrpSpPr/>
          <p:nvPr/>
        </p:nvGrpSpPr>
        <p:grpSpPr>
          <a:xfrm>
            <a:off x="1147680" y="2463840"/>
            <a:ext cx="1260720" cy="459720"/>
            <a:chOff x="1147680" y="2463840"/>
            <a:chExt cx="1260720" cy="459720"/>
          </a:xfrm>
        </p:grpSpPr>
        <p:sp>
          <p:nvSpPr>
            <p:cNvPr id="110" name="TextBox 3"/>
            <p:cNvSpPr/>
            <p:nvPr/>
          </p:nvSpPr>
          <p:spPr>
            <a:xfrm>
              <a:off x="1415880" y="2463840"/>
              <a:ext cx="99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147680" y="2517840"/>
              <a:ext cx="324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矩形 28"/>
          <p:cNvSpPr/>
          <p:nvPr/>
        </p:nvSpPr>
        <p:spPr>
          <a:xfrm>
            <a:off x="2313000" y="2219400"/>
            <a:ext cx="537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__________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 bread and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or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4325760" y="249876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7"/>
          <p:cNvSpPr/>
          <p:nvPr/>
        </p:nvSpPr>
        <p:spPr>
          <a:xfrm>
            <a:off x="2888640" y="150192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et’s help my mother make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咱们帮助我妈妈做晚饭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8"/>
          <p:cNvSpPr/>
          <p:nvPr/>
        </p:nvSpPr>
        <p:spPr>
          <a:xfrm>
            <a:off x="1041480" y="1730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9"/>
          <p:cNvSpPr/>
          <p:nvPr/>
        </p:nvSpPr>
        <p:spPr>
          <a:xfrm>
            <a:off x="130032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9" descr="book.gif"/>
          <p:cNvPicPr/>
          <p:nvPr/>
        </p:nvPicPr>
        <p:blipFill>
          <a:blip r:embed="rId2"/>
          <a:stretch/>
        </p:blipFill>
        <p:spPr>
          <a:xfrm>
            <a:off x="239760" y="1616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矩形 1"/>
          <p:cNvSpPr/>
          <p:nvPr/>
        </p:nvSpPr>
        <p:spPr>
          <a:xfrm>
            <a:off x="1209600" y="3819600"/>
            <a:ext cx="692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help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（短语）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”，句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1195560" y="3121200"/>
            <a:ext cx="48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邀请别人帮助某人做某事的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963720" y="2228760"/>
            <a:ext cx="762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help + sb. + do s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某人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elps me do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帮助我做家庭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help + sb. + with s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某人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elps me with ma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帮助我学数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949320" y="1530360"/>
            <a:ext cx="27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固定搭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1:22Z</dcterms:modified>
  <cp:revision>5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